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5705-365B-4103-B002-2137B57C7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16C-EAF0-4D81-BC13-BECD31AC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E3E-3607-4DCE-BAB0-25AD9434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9E0-E798-46B4-A241-715A76D0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0FB-C375-42B0-B028-95EA4AD6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6D8-6B14-404F-9CFB-695F3DF5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7F0-534E-4B87-8CA0-FD6DCF97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7D3-F20F-4EA0-B6A4-7A98A7ED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8FE-B346-4E2F-B25A-5D65590A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0CD-B9E6-4B41-BFF7-412C47CF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2D5-EA19-491B-BD7A-3C322784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DF8-2DAC-4C9D-94D2-42387EAD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7A8-BBE5-477F-B6AB-5753C190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E2D0-E70E-42EA-8D25-8883F202F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7-01-26T10:16:30Z</dcterms:modified>
  <cp:revision>134</cp:revision>
  <dc:subject/>
  <dc:title>PowerPoint Presentation</dc:title>
</cp:coreProperties>
</file>